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21B-3105-463A-896D-3B70425D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81E-D3FA-4A87-8D50-4822A748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228-0406-4F3B-AA3C-5A3EB348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BE9-DAF7-4CDE-B123-58682109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4F5-8D35-4602-BB21-6005110C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FB3-E6A4-4B67-A763-C4277AFB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219-D4AD-4CCE-A4FB-05DA3451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8D3-6566-4B63-8EB9-D8723730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387-8829-44FB-B6B0-CAADDF0C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E35-6DCB-4DA2-B1FC-85FC7E6A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CA0-397D-4380-841C-79088B5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165-EFAD-415F-97BA-E98A987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671D-4FE2-45FB-989A-06B9871BC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Travel Ag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project for this section will be to design an advertisement for a Time Travel Ag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be trying to get customers to come with your travel agency to visit Ancient R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 of your Tim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of your Travel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descriptions (your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Slogan and phone number (not your real number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152280"/>
            <a:ext cx="3962160" cy="66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2209680" cy="166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743200" y="5943600"/>
            <a:ext cx="37339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1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Back to the Past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3808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r. Dill’s Time Tr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1752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Join one of our tour groups on a trip to Ancient R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362320"/>
            <a:ext cx="38862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Try foods completely different than to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 more pizza, have som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nails dipped in mil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Sore throat?  No probl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alnuts will help, so get rid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f that cough medic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52760" y="-4010040"/>
            <a:ext cx="2238480" cy="148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ll us now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8120" y="5334120"/>
            <a:ext cx="289548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Call us now! 410-WAY-BACK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SAMPLE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SAMPLE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51:13Z</dcterms:created>
  <dc:creator>bahebbl</dc:creator>
  <dc:description/>
  <dc:language>en-US</dc:language>
  <cp:lastModifiedBy>bahebbl</cp:lastModifiedBy>
  <dcterms:modified xsi:type="dcterms:W3CDTF">2010-04-30T18:51:32Z</dcterms:modified>
  <cp:revision>1</cp:revision>
  <dc:subject/>
  <dc:title>Time Travel Agency</dc:title>
</cp:coreProperties>
</file>